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00D-50E7-4EA2-A56C-AE9CF573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3FE-A3EE-4F43-ACD8-AF3E83EC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D7E-C131-4845-8165-0C5B56AA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7806-662E-46C6-B675-B589DBFD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6F1D-D5AF-4ACC-8C42-F4B10C8A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F3CB-DD2E-49D6-927D-8A7F292F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084A-921F-4F02-8B85-20882A2F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DC4D-3EDA-40D7-808C-1ECB94EB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A9E-6A87-40B0-96C7-EAD27543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2D25-F7E2-4184-AA00-77585FA3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A237-6B71-4BBA-AADC-D3767A73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2D83-2675-4A8A-A7F4-E50B30D8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8874-E845-490B-919B-7CABC73C17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3.jpeg"/><Relationship Id="rId5" Type="http://schemas.openxmlformats.org/officeDocument/2006/relationships/image" Target="../media/image23.jpeg"/><Relationship Id="rId6" Type="http://schemas.openxmlformats.org/officeDocument/2006/relationships/image" Target="../media/image19.pn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jpe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025680" y="5410080"/>
            <a:ext cx="278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: Юдина И.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Г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User\Desktop\slide-6.jpg"/>
          <p:cNvPicPr/>
          <p:nvPr/>
        </p:nvPicPr>
        <p:blipFill>
          <a:blip r:embed="rId1"/>
          <a:stretch/>
        </p:blipFill>
        <p:spPr>
          <a:xfrm>
            <a:off x="-468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C:\Users\User\Desktop\s1200.jpg"/>
          <p:cNvPicPr/>
          <p:nvPr/>
        </p:nvPicPr>
        <p:blipFill>
          <a:blip r:embed="rId1"/>
          <a:stretch/>
        </p:blipFill>
        <p:spPr>
          <a:xfrm>
            <a:off x="2819520" y="76320"/>
            <a:ext cx="4308480" cy="380844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2807640" y="3921120"/>
            <a:ext cx="43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ажаемые родители и наши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52280" y="4343400"/>
            <a:ext cx="883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здравляем Вас с праздником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есны и Труда, с 1 Мая!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елаем чтобы тру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ыл посильным, достойным, облагораживающим, добросовестным, чес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дрости Вам, эмоциональной насыщенности, результатов, идей, всег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вёрдо идите по выбранному пути к намеченной цели, не боясь препятств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одолевая трудности. Пусть весеннее солнце радует Вас светом своих лучей и дарит только хорошее настрое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уважением Ваши педаг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2286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47920" y="2590920"/>
            <a:ext cx="68580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 познакомиться с историей праздника. Развитие кругозора. Воспитание патриот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User\Desktop\Рисунок1.jpg"/>
          <p:cNvPicPr/>
          <p:nvPr/>
        </p:nvPicPr>
        <p:blipFill>
          <a:blip r:embed="rId1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Users\User\Desktop\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майские праз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7" descr="C:\Users\User\Desktop\6-20.jpg"/>
          <p:cNvPicPr/>
          <p:nvPr/>
        </p:nvPicPr>
        <p:blipFill>
          <a:blip r:embed="rId2"/>
          <a:stretch/>
        </p:blipFill>
        <p:spPr>
          <a:xfrm>
            <a:off x="2825640" y="990720"/>
            <a:ext cx="3784680" cy="27730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C:\Users\User\Desktop\maxresdefault.jpg"/>
          <p:cNvPicPr/>
          <p:nvPr/>
        </p:nvPicPr>
        <p:blipFill>
          <a:blip r:embed="rId3"/>
          <a:stretch/>
        </p:blipFill>
        <p:spPr>
          <a:xfrm>
            <a:off x="533520" y="3959280"/>
            <a:ext cx="4235400" cy="2381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" descr="C:\Users\User\Desktop\1280px-Верной_дорогой_идёте,_товарищи!.jpg"/>
          <p:cNvPicPr/>
          <p:nvPr/>
        </p:nvPicPr>
        <p:blipFill>
          <a:blip r:embed="rId4"/>
          <a:stretch/>
        </p:blipFill>
        <p:spPr>
          <a:xfrm>
            <a:off x="5257800" y="3824280"/>
            <a:ext cx="3392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майские праз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5" descr="C:\Users\User\Desktop\52a3b05155964151d1cc6c97d4928431.jpg"/>
          <p:cNvPicPr/>
          <p:nvPr/>
        </p:nvPicPr>
        <p:blipFill>
          <a:blip r:embed="rId2"/>
          <a:stretch/>
        </p:blipFill>
        <p:spPr>
          <a:xfrm>
            <a:off x="2819520" y="844560"/>
            <a:ext cx="3352680" cy="2792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C:\Users\User\Desktop\dsc091.jpg"/>
          <p:cNvPicPr/>
          <p:nvPr/>
        </p:nvPicPr>
        <p:blipFill>
          <a:blip r:embed="rId3"/>
          <a:stretch/>
        </p:blipFill>
        <p:spPr>
          <a:xfrm>
            <a:off x="457200" y="3886200"/>
            <a:ext cx="3809880" cy="280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User\Desktop\tMgYql6FAiussjUtbuL7Qn6DaCu9NR7Z.jpg"/>
          <p:cNvPicPr/>
          <p:nvPr/>
        </p:nvPicPr>
        <p:blipFill>
          <a:blip r:embed="rId4"/>
          <a:stretch/>
        </p:blipFill>
        <p:spPr>
          <a:xfrm>
            <a:off x="4876920" y="3868560"/>
            <a:ext cx="38462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2" descr="ребусы"/>
          <p:cNvPicPr/>
          <p:nvPr/>
        </p:nvPicPr>
        <p:blipFill>
          <a:blip r:embed="rId1"/>
          <a:stretch/>
        </p:blipFill>
        <p:spPr>
          <a:xfrm>
            <a:off x="3365640" y="2286000"/>
            <a:ext cx="1904760" cy="1419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" descr="ребусы"/>
          <p:cNvPicPr/>
          <p:nvPr/>
        </p:nvPicPr>
        <p:blipFill>
          <a:blip r:embed="rId2"/>
          <a:stretch/>
        </p:blipFill>
        <p:spPr>
          <a:xfrm>
            <a:off x="3170160" y="2297160"/>
            <a:ext cx="203400" cy="1419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ребусы"/>
          <p:cNvPicPr/>
          <p:nvPr/>
        </p:nvPicPr>
        <p:blipFill>
          <a:blip r:embed="rId3"/>
          <a:stretch/>
        </p:blipFill>
        <p:spPr>
          <a:xfrm>
            <a:off x="5510160" y="2282760"/>
            <a:ext cx="233280" cy="142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2560" y="6094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майские ребусы 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гадайте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шифрованные сл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8" descr="ребусы"/>
          <p:cNvPicPr/>
          <p:nvPr/>
        </p:nvPicPr>
        <p:blipFill>
          <a:blip r:embed="rId4"/>
          <a:stretch/>
        </p:blipFill>
        <p:spPr>
          <a:xfrm>
            <a:off x="1136520" y="4267080"/>
            <a:ext cx="1758960" cy="1860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ребусы"/>
          <p:cNvPicPr/>
          <p:nvPr/>
        </p:nvPicPr>
        <p:blipFill>
          <a:blip r:embed="rId5"/>
          <a:stretch/>
        </p:blipFill>
        <p:spPr>
          <a:xfrm>
            <a:off x="5278320" y="2282760"/>
            <a:ext cx="231840" cy="142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ребусы"/>
          <p:cNvPicPr/>
          <p:nvPr/>
        </p:nvPicPr>
        <p:blipFill>
          <a:blip r:embed="rId6"/>
          <a:stretch/>
        </p:blipFill>
        <p:spPr>
          <a:xfrm>
            <a:off x="5743440" y="2241720"/>
            <a:ext cx="231840" cy="142236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2457000" y="27385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612360" y="48006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ребусы"/>
          <p:cNvPicPr/>
          <p:nvPr/>
        </p:nvPicPr>
        <p:blipFill>
          <a:blip r:embed="rId7"/>
          <a:stretch/>
        </p:blipFill>
        <p:spPr>
          <a:xfrm>
            <a:off x="2876400" y="4218120"/>
            <a:ext cx="1209960" cy="1904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ребусы"/>
          <p:cNvPicPr/>
          <p:nvPr/>
        </p:nvPicPr>
        <p:blipFill>
          <a:blip r:embed="rId8"/>
          <a:stretch/>
        </p:blipFill>
        <p:spPr>
          <a:xfrm>
            <a:off x="5486400" y="4267080"/>
            <a:ext cx="1905120" cy="159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ребусы"/>
          <p:cNvPicPr/>
          <p:nvPr/>
        </p:nvPicPr>
        <p:blipFill>
          <a:blip r:embed="rId9"/>
          <a:stretch/>
        </p:blipFill>
        <p:spPr>
          <a:xfrm>
            <a:off x="7391520" y="4294080"/>
            <a:ext cx="1477800" cy="1824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ребусы"/>
          <p:cNvPicPr/>
          <p:nvPr/>
        </p:nvPicPr>
        <p:blipFill>
          <a:blip r:embed="rId10"/>
          <a:stretch/>
        </p:blipFill>
        <p:spPr>
          <a:xfrm>
            <a:off x="5664240" y="5896080"/>
            <a:ext cx="774720" cy="295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6442920" y="585792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= 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4955760" y="48006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ребусы"/>
          <p:cNvPicPr/>
          <p:nvPr/>
        </p:nvPicPr>
        <p:blipFill>
          <a:blip r:embed="rId1"/>
          <a:stretch/>
        </p:blipFill>
        <p:spPr>
          <a:xfrm>
            <a:off x="2438280" y="2665440"/>
            <a:ext cx="914400" cy="134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ребусы"/>
          <p:cNvPicPr/>
          <p:nvPr/>
        </p:nvPicPr>
        <p:blipFill>
          <a:blip r:embed="rId2"/>
          <a:stretch/>
        </p:blipFill>
        <p:spPr>
          <a:xfrm>
            <a:off x="3519360" y="2630520"/>
            <a:ext cx="1451160" cy="10303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4566240" y="3660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ребусы"/>
          <p:cNvPicPr/>
          <p:nvPr/>
        </p:nvPicPr>
        <p:blipFill>
          <a:blip r:embed="rId3"/>
          <a:stretch/>
        </p:blipFill>
        <p:spPr>
          <a:xfrm>
            <a:off x="5334120" y="2587680"/>
            <a:ext cx="1600200" cy="1073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ребусы"/>
          <p:cNvPicPr/>
          <p:nvPr/>
        </p:nvPicPr>
        <p:blipFill>
          <a:blip r:embed="rId4"/>
          <a:stretch/>
        </p:blipFill>
        <p:spPr>
          <a:xfrm>
            <a:off x="5178600" y="2587680"/>
            <a:ext cx="155520" cy="125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ребусы"/>
          <p:cNvPicPr/>
          <p:nvPr/>
        </p:nvPicPr>
        <p:blipFill>
          <a:blip r:embed="rId5"/>
          <a:stretch/>
        </p:blipFill>
        <p:spPr>
          <a:xfrm>
            <a:off x="6934320" y="2209680"/>
            <a:ext cx="174600" cy="1451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ребусы"/>
          <p:cNvPicPr/>
          <p:nvPr/>
        </p:nvPicPr>
        <p:blipFill>
          <a:blip r:embed="rId6"/>
          <a:stretch/>
        </p:blipFill>
        <p:spPr>
          <a:xfrm>
            <a:off x="3657600" y="3732120"/>
            <a:ext cx="636480" cy="29520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4343760" y="3657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0" descr="ребусы"/>
          <p:cNvPicPr/>
          <p:nvPr/>
        </p:nvPicPr>
        <p:blipFill>
          <a:blip r:embed="rId7"/>
          <a:stretch/>
        </p:blipFill>
        <p:spPr>
          <a:xfrm>
            <a:off x="990720" y="4648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омайские ребусы </a:t>
            </a: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отгадайте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шифрованные сл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1722600" y="61117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=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0" descr="ребусы"/>
          <p:cNvPicPr/>
          <p:nvPr/>
        </p:nvPicPr>
        <p:blipFill>
          <a:blip r:embed="rId8"/>
          <a:stretch/>
        </p:blipFill>
        <p:spPr>
          <a:xfrm>
            <a:off x="2598840" y="4633920"/>
            <a:ext cx="1166760" cy="1485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2" descr="ребусы"/>
          <p:cNvPicPr/>
          <p:nvPr/>
        </p:nvPicPr>
        <p:blipFill>
          <a:blip r:embed="rId9"/>
          <a:stretch/>
        </p:blipFill>
        <p:spPr>
          <a:xfrm>
            <a:off x="3968640" y="4637160"/>
            <a:ext cx="1111320" cy="1452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ребусы"/>
          <p:cNvPicPr/>
          <p:nvPr/>
        </p:nvPicPr>
        <p:blipFill>
          <a:blip r:embed="rId10"/>
          <a:stretch/>
        </p:blipFill>
        <p:spPr>
          <a:xfrm>
            <a:off x="3774960" y="6186600"/>
            <a:ext cx="663840" cy="295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4452120" y="613404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буква=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1814400" y="2936880"/>
            <a:ext cx="8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536400" y="518796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8" descr="ребусы"/>
          <p:cNvPicPr/>
          <p:nvPr/>
        </p:nvPicPr>
        <p:blipFill>
          <a:blip r:embed="rId11"/>
          <a:stretch/>
        </p:blipFill>
        <p:spPr>
          <a:xfrm>
            <a:off x="1130400" y="6148440"/>
            <a:ext cx="588960" cy="295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ребусы"/>
          <p:cNvPicPr/>
          <p:nvPr/>
        </p:nvPicPr>
        <p:blipFill>
          <a:blip r:embed="rId12"/>
          <a:stretch/>
        </p:blipFill>
        <p:spPr>
          <a:xfrm>
            <a:off x="6410160" y="4749840"/>
            <a:ext cx="865440" cy="1361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5972040" y="501336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7167600" y="47498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779240" y="4282920"/>
            <a:ext cx="1233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2514600" y="457200"/>
            <a:ext cx="50292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омайские реб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Проверь себя» </a:t>
            </a:r>
            <a:br>
              <a:rPr sz="32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зашифрованные сл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3922560" y="2057400"/>
            <a:ext cx="3070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О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НЬ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User</cp:lastModifiedBy>
  <dcterms:modified xsi:type="dcterms:W3CDTF">2020-04-28T13:13:5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